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166-3E01-42A3-842F-B3AD6870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5AF-3FBD-4B59-8E08-AF44C8CF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C75-5F99-4C8A-9866-CFE73A80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5EF-FE05-436D-80F9-C316F3BE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9AAE-9798-46BF-A2EB-F98DB308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67E-6736-45C6-A088-4F6DEE1D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5E90-CF42-45D8-9BF9-E337CA7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0803-2753-4A7D-99CF-C13326F0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695D-8C19-43AE-B793-B6778F55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F1A4-B738-4334-A05C-0B8BB59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4253-EBE7-4692-B4C3-424FBAA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B08-E4FC-4DD2-8BF0-B3DA521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080B-6083-4BD5-B200-68AEC5CF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D79-3733-43B9-97F2-A2A5E0B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EA96-98E4-4238-BCB0-FF7D275A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C3FB-958F-4266-99D7-70FDADC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8BA8-F87B-44A1-8ED6-5CA20093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725-A112-47FD-B0D7-01504026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0CB-2A41-4D99-A249-BEEDAA7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E72-031A-4856-825B-0D0728B7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94F-BCFE-45F9-8D5A-837A3EB8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3BB-D60D-449B-91EA-ADF2A8EC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576-389C-46C9-AE20-D5379163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987-DBCF-411F-9412-E5E2668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9AF4-E843-46A2-A7BA-937F13FE10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BA8-ADA8-481F-B0EC-98C431BA77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бщие свед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 программном комплекс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36480" y="1038240"/>
            <a:ext cx="8121600" cy="55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предоставляет пользователям уникальный инструмент для разработки необходимой и обязательной для строительства документации: проекта организации строительства, проекта производства работ, технологических карт и т.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вида строительства приведен полный набор разрабатываемых  документов, их разделов и отдельных задач, по каждой задаче даются  основополагающие нормативные документы и методики разработки проектных решений, примеры апробированных проектных реш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разработке и постоянном совершенствовании продукта активно участвуют опытные проектировщи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разрабатываемого проектного решения по разделу/задаче ПОС и ППР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иводятся нормативные и методические документы с удобными средствами поис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злагается существо задачи и требования к содержанию исходной и выходной информаци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аются примеры апробированных проектных решений в электронном виде, которые могут служить хорошей основой для собственных проработок (шаблоны - эталоны решений);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ставляются современные средства автоматизации выпуска расчетной, графической и текстовой документации (программные модул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значение 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50880" y="1363680"/>
            <a:ext cx="812160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уникален и не имеет аналог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руктурированный перечень разделов и задач ПОС и ППР значительно облегчает проектировщику поиск необходимых нормативных и методических материалов и примеров выполненных разработ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личие программных модулей позволяет автоматизировать решение наиболее трудоемких и сложных задач и снизить трудоемкость разработки соответствующих разделов проектной документ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добные и технологичные интерфейсы обеспечивают возможность простого ведения и пополнения электронного технического архи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пользование имеющихся графических и документальных баз данных значительно облегчает работу проектировщ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- инструмент, необходимый проектировщикам ПОС и ППР, инженерам групп подготовки производства, преподавателям и студентам ВУЗ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совместим с графическими пакетами AutoCAD и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ics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CAD последних верс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позволяет работать как в локальном режиме на отдельном компьютере, так и в сетевом режиме с поддержкой одновременной работы нескольких пользовател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36480" y="1528920"/>
            <a:ext cx="812160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действующий сертификат соответствия RA.RU.АБ86.H00951, выдан ООО ЦСПС - органом по сертификации программной продукции в строительстве, срок действия с 01.09.2016 по 31.08.201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свидетельство об официальной регистрации программы для ЭВМ № 20076135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гражден Золотой медалью "Лауреат ВВЦ" уд. 245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вляется Победителем конкурса лучших ИТ-решений "Продукт года" всероссийской выставки информационных технологий SofTo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комендован к использованию в московском строительстве экспертной комиссией по новой техни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ртификаты и награ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63480" y="1406520"/>
            <a:ext cx="812160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фортная, всесторонняя и оперативная поддержка по телефону или по электронной поч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сультации в помещении фирмы или с выездом в офис пользо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астие в регулярных бесплатных семинарах и вебина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едоставление демоверсии и презентации по программному комплекс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ьготное получение новых верс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ff99"/>
                </a:solidFill>
                <a:latin typeface="Times New Roman"/>
              </a:rPr>
              <a:t>Мы призываем к сотрудничеству специалистов по организации и технологии строительства: поставленные Вами типовые задачи, имеющие общий интерес, будут решаться и поставляться на безвозмездной основ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льзователям программного комплекса гарантирует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63840" y="204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ак нас най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8360" y="858960"/>
            <a:ext cx="869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Адрес НТЦ "Гектор": г. Москва, ул. Огородный проезд, д. 20,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тр. 1, 7 этаж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айт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//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mail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@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Тел./факс: (495) 510-15-4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ТЦ "Гектор" поддерживает и постоянно развивает сеть представителей в Москве и регионах России. Обратившись к нашим партнерам Вы всегда можете рассчитывать на самый высокий уровень обслуживания. По вопросам сотрудничества и получения дополнительной информации обращайтесь в отдел по работе с партне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2040" y="3745080"/>
            <a:ext cx="411336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Times New Roman"/>
              </a:rPr>
              <a:t>Как к нам проехат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т м. Тимирязевская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ом 19 до остановки "Пивоваренный завод" (3-я остановка) или маршрутным такси 319 до остановки "Пивоваренный завод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ами 12, 126, 23 до остановки "Огородный проезд" (2-я остановка)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22360" y="3354480"/>
            <a:ext cx="4159080" cy="34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6T11:04:54Z</dcterms:modified>
  <cp:revision>135</cp:revision>
  <dc:subject/>
  <dc:title>Слайд 1</dc:title>
</cp:coreProperties>
</file>